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43975-4A60-450A-907B-BE13CA7F7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E3DC1-8671-4F43-B2B4-1028F92D1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25EEA-E86A-42D6-8B2E-2A29D3D5A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8C1B6-1FB9-4A36-A096-1E7153E36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3059F-E58E-42C6-ADDA-00211E71A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D99BC-DB19-44F7-B232-EE2A484F2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4AB63-9350-4BE2-B0B4-6DCDA0E27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7F67C-FD6F-4DDC-ADC4-F98B400B9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D0532-6380-4C41-8906-6846D2A2D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8AE73-BC52-4238-8904-18ED29A9F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429DD-42DD-4B8A-BA91-F1097A8E4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824DF-2B81-42B9-987B-5EA4A67EF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C6AEE-E158-4B9B-A0B0-D85F279F6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BF426-EEF8-4486-B904-1E79BAE46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5BFCC-6647-4408-A2E9-894ED1A8F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9E3A4-EB0D-419B-B89C-5BB9CF4D2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9EE0D-0A1B-4FB6-BCCF-A6F4B99E9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DBEAC-620E-4BBE-80E5-925CA3BAD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7821D-1D78-4AC9-B594-9E40BE4DE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F2366-30B5-4954-B236-CDFEB5119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CC1F4-FEA2-4785-9E14-5506B2C9F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69418-1D72-4E48-928E-4C7B8B054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220B-1C5C-42D5-AFAA-30CFA49CA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53783-DE99-453B-B16C-FE5060D78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241B-72C8-46DF-9F31-5EB989FF0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A19B-C4D7-41F4-8C84-89D23DDB4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google.co.uk/imgres?imgurl=http://www.boingboing.net/images/tomjeryrryyrry.jpg&amp;imgrefurl=http://boingboing.net/2008/10/14/gross-cartoon-art.html&amp;usg=__GMOqSf9EeGFvH2C2kXlyFKMpGjE=&amp;h=300&amp;w=272&amp;sz=40&amp;hl=en&amp;start=1&amp;zoom=1&amp;um=1&amp;itbs=1&amp;tbnid=bggscNNVZVn1dM:&amp;tbnh=116&amp;tbnw=105&amp;prev=/images%3Fq%3Dviolent%2Bcartoons%26um%3D1%26hl%3Den%26tbs%3Disch:1"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google.co.uk/imgres?imgurl=http://static.michaelmoore.com/books_films/5-bowling__.jpg&amp;imgrefurl=http://www.michaelmoore.com/books-films/bowling-columbine&amp;usg=__u59PRpUwCplvUBHQ8J_EkNjQ1MU=&amp;h=500&amp;w=337&amp;sz=47&amp;hl=en&amp;start=3&amp;zoom=1&amp;um=1&amp;itbs=1&amp;tbnid=cQfM1Rh48pJWOM:&amp;tbnh=130&amp;tbnw=88&amp;prev=/images%3Fq%3Dbowling%2Bfor%2Bcolumbine%26um%3D1%26hl%3Den%26tbs%3Disch:1"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uk/imgres?imgurl=http://cms.mumbaimirror.com/portalfiles/1/4/200810/Image/041008/W22-01a.jpg&amp;imgrefurl=http://www.btnhboard.com/forums/showthread.php%3Ft%3D172405%26page%3D2&amp;usg=__n_h-5XVUWGjad8LCB7Orh9NA7qM=&amp;h=300&amp;w=281&amp;sz=13&amp;hl=en&amp;start=2&amp;zoom=1&amp;itbs=1&amp;tbnid=RMyV8XF5vXkcPM:&amp;tbnh=116&amp;tbnw=109&amp;prev=/images%3Fq%3Dtom%2Band%2Bjerry%2Bviolence%26hl%3Den%26gbv%3D2%26tbs%3Disch:1" TargetMode="External"/><Relationship Id="rId2" Type="http://schemas.openxmlformats.org/officeDocument/2006/relationships/image" Target="../media/image4.jpeg"/><Relationship Id="rId3" Type="http://schemas.openxmlformats.org/officeDocument/2006/relationships/hyperlink" Target="http://www.google.co.uk/imgres?imgurl=http://www.crazedfanboy.com/nolansnewsstand/PCR/southpark1.jpg&amp;imgrefurl=http://www.crazedfanboy.com/nolansnewsstand/page13.html&amp;usg=__z4qLflBsS5eOyFaov6iESnKfY2I=&amp;h=464&amp;w=608&amp;sz=35&amp;hl=en&amp;start=6&amp;zoom=1&amp;itbs=1&amp;tbnid=B8rtYc0gp7qBMM:&amp;tbnh=104&amp;tbnw=136&amp;prev=/images%3Fq%3Dwho%2Bkilled%2Bkenny%26hl%3Den%26gbv%3D2%26tbs%3Disch:1" TargetMode="External"/><Relationship Id="rId4" Type="http://schemas.openxmlformats.org/officeDocument/2006/relationships/image" Target="../media/image5.jpeg"/><Relationship Id="rId5" Type="http://schemas.openxmlformats.org/officeDocument/2006/relationships/hyperlink" Target="http://www.google.co.uk/imgres?imgurl=http://www.saatchikevin.com/files/media_medium/6007_NSPCC_Cartoon_0000.jpg&amp;imgrefurl=http://www.saatchikevin.com/sisomo/UK_NSPCC_Cartoon/&amp;usg=__NgbR4avhk9y73RUW-wU5x3DBOn4=&amp;h=240&amp;w=320&amp;sz=18&amp;hl=en&amp;start=1&amp;zoom=1&amp;um=1&amp;itbs=1&amp;tbnid=RCO-p-lxQ1FRpM:&amp;tbnh=89&amp;tbnw=118&amp;prev=/images%3Fq%3D2007%2BNSPCC%2Bviolent%2Bcartoon%26um%3D1%26hl%3Den%26sa%3DN%26tbs%3Disch:1" TargetMode="External"/><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uk/imgres?imgurl=http://i.dailymail.co.uk/i/pix/2009/06/06/article-1191231-006255A800000258-505_468x286.jpg&amp;imgrefurl=http://www.dailymail.co.uk/news/article-1191231/Yes-I-callous--Remarkable-confession-war-reporter-Ben-Brown.html&amp;usg=__F3AysUpHzDM9LvXF65E77LX3m0M=&amp;h=286&amp;w=468&amp;sz=35&amp;hl=en&amp;start=8&amp;zoom=1&amp;um=1&amp;itbs=1&amp;tbnid=AAda4b9PXD64lM:&amp;tbnh=78&amp;tbnw=128&amp;prev=/images%3Fq%3Dwar%2Breporter%26um%3D1%26hl%3Den%26tbs%3Disch:1" TargetMode="External"/><Relationship Id="rId2" Type="http://schemas.openxmlformats.org/officeDocument/2006/relationships/image" Target="../media/image7.jpeg"/><Relationship Id="rId3" Type="http://schemas.openxmlformats.org/officeDocument/2006/relationships/hyperlink" Target="http://www.google.co.uk/imgres?imgurl=http://dvd.easycinema.com/easy/images/products/0/20730-large.jpg&amp;imgrefurl=http://dvd.easycinema.com/visitor/product_detail.html%3Fproduct_id%3D20730&amp;usg=__OvlnlGiguVMTQ6f_S5TVV0vb7rw=&amp;h=429&amp;w=300&amp;sz=23&amp;hl=en&amp;start=20&amp;zoom=1&amp;um=1&amp;itbs=1&amp;tbnid=Sz6g060MgovFaM:&amp;tbnh=126&amp;tbnw=88&amp;prev=/images%3Fq%3Dfight%2Bagainst%2Bevil%26um%3D1%26hl%3Den%26tbs%3Disch:1"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ogle.co.uk/imgres?imgurl=http://miamishield.com/images/woman.gif&amp;imgrefurl=http://miamishield.com/personalsafety.php&amp;usg=__hibMMQVMYrDapaUDZAskdpzW2fc=&amp;h=237&amp;w=530&amp;sz=39&amp;hl=en&amp;start=2&amp;zoom=1&amp;um=1&amp;itbs=1&amp;tbnid=BWEJEZX6eJfgHM:&amp;tbnh=59&amp;tbnw=132&amp;prev=/images%3Fq%3Dwomen%2527s%2Bpersonal%2Bsafety%26um%3D1%26hl%3Den%26tbs%3Disch:1"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ogle.co.uk/imgres?imgurl=http://www.asiantribune.com/files/images/Execution%2520of%2520Saddam%2520Hussein2.img_assist_custom.jpg&amp;imgrefurl=http://www.drblogstein.com/category/drunk&amp;usg=__sQsUbAsg19ASAPKSHW_0lEx-BYE=&amp;h=292&amp;w=350&amp;sz=75&amp;hl=en&amp;start=8&amp;zoom=1&amp;um=1&amp;itbs=1&amp;tbnid=KTiJgpRZcJ5FfM:&amp;tbnh=100&amp;tbnw=120&amp;prev=/images%3Fq%3Dsaddam%2Bhussein%2Bexecution%26um%3D1%26hl%3Den%26tbs%3Disch:1"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Media Violence</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A Level Media Studies</a:t>
            </a:r>
            <a:endParaRPr b="0" lang="en-US" sz="3300" spc="-1" strike="noStrike">
              <a:solidFill>
                <a:srgbClr val="000000"/>
              </a:solidFill>
              <a:latin typeface="Arial"/>
            </a:endParaRPr>
          </a:p>
        </p:txBody>
      </p:sp>
      <p:pic>
        <p:nvPicPr>
          <p:cNvPr id="90" name="" descr=""/>
          <p:cNvPicPr/>
          <p:nvPr/>
        </p:nvPicPr>
        <p:blipFill>
          <a:blip r:embed="rId1"/>
          <a:stretch/>
        </p:blipFill>
        <p:spPr>
          <a:xfrm>
            <a:off x="7093080" y="0"/>
            <a:ext cx="2050920" cy="1434960"/>
          </a:xfrm>
          <a:prstGeom prst="rect">
            <a:avLst/>
          </a:prstGeom>
          <a:ln w="0">
            <a:noFill/>
          </a:ln>
        </p:spPr>
      </p:pic>
      <p:pic>
        <p:nvPicPr>
          <p:cNvPr id="91" name="" descr=""/>
          <p:cNvPicPr/>
          <p:nvPr/>
        </p:nvPicPr>
        <p:blipFill>
          <a:blip r:embed="rId2"/>
          <a:stretch/>
        </p:blipFill>
        <p:spPr>
          <a:xfrm>
            <a:off x="0" y="0"/>
            <a:ext cx="2195640" cy="1644480"/>
          </a:xfrm>
          <a:prstGeom prst="rect">
            <a:avLst/>
          </a:prstGeom>
          <a:ln w="0">
            <a:noFill/>
          </a:ln>
        </p:spPr>
      </p:pic>
      <p:pic>
        <p:nvPicPr>
          <p:cNvPr id="92" name="" descr=""/>
          <p:cNvPicPr/>
          <p:nvPr/>
        </p:nvPicPr>
        <p:blipFill>
          <a:blip r:embed="rId3"/>
          <a:stretch/>
        </p:blipFill>
        <p:spPr>
          <a:xfrm>
            <a:off x="6732720" y="4670280"/>
            <a:ext cx="2411280" cy="218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elanie Moore</a:t>
            </a:r>
            <a:endParaRPr b="0" lang="en-US" sz="33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ear, greed, power-hunger, rage: these are aspects of our selves that we try not to experience in our lives but often want, even need, to experience vicariously through stories of others. Children need violent entertainment in order to explore the inescapable feelings that they've been taught to deny, and to reintegrate those feelings into a more whole, more complex, more resilient selfhood."</a:t>
            </a:r>
            <a:endParaRPr b="0" lang="en-US" sz="2700" spc="-1" strike="noStrike">
              <a:solidFill>
                <a:srgbClr val="000000"/>
              </a:solidFill>
              <a:latin typeface="Arial"/>
            </a:endParaRPr>
          </a:p>
        </p:txBody>
      </p:sp>
      <p:pic>
        <p:nvPicPr>
          <p:cNvPr id="126" name="" descr="">
            <a:hlinkClick r:id="rId1"/>
          </p:cNvPr>
          <p:cNvPicPr/>
          <p:nvPr/>
        </p:nvPicPr>
        <p:blipFill>
          <a:blip r:embed="rId2"/>
          <a:stretch/>
        </p:blipFill>
        <p:spPr>
          <a:xfrm>
            <a:off x="7539120" y="0"/>
            <a:ext cx="1604880" cy="177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T</a:t>
            </a:r>
            <a:r>
              <a:rPr b="0" lang="en-US" sz="3300" spc="-1" strike="noStrike">
                <a:solidFill>
                  <a:srgbClr val="336666"/>
                </a:solidFill>
                <a:latin typeface="Arial Black"/>
              </a:rPr>
              <a:t>hierry Jobin </a:t>
            </a: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ore denounces the way in which the government and the media foster a feeling of insecurity, pushing Americans to barricade themselves in their homes, a loaded 44 Magnum under their pillows."</a:t>
            </a:r>
            <a:endParaRPr b="0" lang="en-US" sz="3100" spc="-1" strike="noStrike">
              <a:solidFill>
                <a:srgbClr val="000000"/>
              </a:solidFill>
              <a:latin typeface="Arial"/>
            </a:endParaRPr>
          </a:p>
        </p:txBody>
      </p:sp>
      <p:pic>
        <p:nvPicPr>
          <p:cNvPr id="129" name="" descr="">
            <a:hlinkClick r:id="rId1"/>
          </p:cNvPr>
          <p:cNvPicPr/>
          <p:nvPr/>
        </p:nvPicPr>
        <p:blipFill>
          <a:blip r:embed="rId2"/>
          <a:stretch/>
        </p:blipFill>
        <p:spPr>
          <a:xfrm>
            <a:off x="7699320" y="4724280"/>
            <a:ext cx="144468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structionist Approach…</a:t>
            </a:r>
            <a:endParaRPr b="0" lang="en-US" sz="3300" spc="-1" strike="noStrike">
              <a:solidFill>
                <a:srgbClr val="336666"/>
              </a:solidFill>
              <a:latin typeface="Arial Black"/>
            </a:endParaRPr>
          </a:p>
        </p:txBody>
      </p:sp>
      <p:sp>
        <p:nvSpPr>
          <p:cNvPr id="94" name="PlaceHolder 2"/>
          <p:cNvSpPr>
            <a:spLocks noGrp="1"/>
          </p:cNvSpPr>
          <p:nvPr>
            <p:ph/>
          </p:nvPr>
        </p:nvSpPr>
        <p:spPr>
          <a:xfrm>
            <a:off x="762120" y="1904760"/>
            <a:ext cx="7696080" cy="41878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a representations help to construct our understanding of the worl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presentation of violence causes controvers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a violence is evident in a text when there is violation that causes actual physical or emotional harm and there is intentionality behind this viola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7"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a:hlinkClick r:id="rId1"/>
          </p:cNvPr>
          <p:cNvPicPr/>
          <p:nvPr/>
        </p:nvPicPr>
        <p:blipFill>
          <a:blip r:embed="rId2"/>
          <a:stretch/>
        </p:blipFill>
        <p:spPr>
          <a:xfrm>
            <a:off x="684360" y="836640"/>
            <a:ext cx="2233440" cy="2376360"/>
          </a:xfrm>
          <a:prstGeom prst="rect">
            <a:avLst/>
          </a:prstGeom>
          <a:ln w="0">
            <a:noFill/>
          </a:ln>
        </p:spPr>
      </p:pic>
      <p:sp>
        <p:nvSpPr>
          <p:cNvPr id="96" name=""/>
          <p:cNvSpPr/>
          <p:nvPr/>
        </p:nvSpPr>
        <p:spPr>
          <a:xfrm>
            <a:off x="3203640" y="184464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harm caused is momentary</a:t>
            </a:r>
            <a:endParaRPr b="0" lang="en-US" sz="1800" spc="-1" strike="noStrike">
              <a:solidFill>
                <a:srgbClr val="000000"/>
              </a:solidFill>
              <a:latin typeface="Arial"/>
            </a:endParaRPr>
          </a:p>
        </p:txBody>
      </p:sp>
      <p:pic>
        <p:nvPicPr>
          <p:cNvPr id="97" name="" descr="">
            <a:hlinkClick r:id="rId3"/>
          </p:cNvPr>
          <p:cNvPicPr/>
          <p:nvPr/>
        </p:nvPicPr>
        <p:blipFill>
          <a:blip r:embed="rId4"/>
          <a:stretch/>
        </p:blipFill>
        <p:spPr>
          <a:xfrm>
            <a:off x="826920" y="3789360"/>
            <a:ext cx="2305080" cy="1762200"/>
          </a:xfrm>
          <a:prstGeom prst="rect">
            <a:avLst/>
          </a:prstGeom>
          <a:ln w="0">
            <a:noFill/>
          </a:ln>
        </p:spPr>
      </p:pic>
      <p:sp>
        <p:nvSpPr>
          <p:cNvPr id="98" name=""/>
          <p:cNvSpPr/>
          <p:nvPr/>
        </p:nvSpPr>
        <p:spPr>
          <a:xfrm>
            <a:off x="3419640" y="3933720"/>
            <a:ext cx="273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lling of Kenny is ritualistic – audience know no long term damage is done</a:t>
            </a:r>
            <a:endParaRPr b="0" lang="en-US" sz="1800" spc="-1" strike="noStrike">
              <a:solidFill>
                <a:srgbClr val="000000"/>
              </a:solidFill>
              <a:latin typeface="Arial"/>
            </a:endParaRPr>
          </a:p>
        </p:txBody>
      </p:sp>
      <p:sp>
        <p:nvSpPr>
          <p:cNvPr id="99" name=""/>
          <p:cNvSpPr/>
          <p:nvPr/>
        </p:nvSpPr>
        <p:spPr>
          <a:xfrm flipH="1">
            <a:off x="2987280" y="2492280"/>
            <a:ext cx="86364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3203280" y="5157720"/>
            <a:ext cx="647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56360" y="2565360"/>
            <a:ext cx="194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saatchikevin.com/sisomo/UK_NSPCC_Cartoon/</a:t>
            </a:r>
            <a:endParaRPr b="0" lang="en-US" sz="1800" spc="-1" strike="noStrike">
              <a:solidFill>
                <a:srgbClr val="000000"/>
              </a:solidFill>
              <a:latin typeface="Arial"/>
            </a:endParaRPr>
          </a:p>
        </p:txBody>
      </p:sp>
      <p:sp>
        <p:nvSpPr>
          <p:cNvPr id="102" name=""/>
          <p:cNvSpPr/>
          <p:nvPr/>
        </p:nvSpPr>
        <p:spPr>
          <a:xfrm>
            <a:off x="6227640" y="4724280"/>
            <a:ext cx="2702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PCC triggers an emotive response using cartoon violence</a:t>
            </a:r>
            <a:endParaRPr b="0" lang="en-US" sz="1800" spc="-1" strike="noStrike">
              <a:solidFill>
                <a:srgbClr val="000000"/>
              </a:solidFill>
              <a:latin typeface="Arial"/>
            </a:endParaRPr>
          </a:p>
        </p:txBody>
      </p:sp>
      <p:sp>
        <p:nvSpPr>
          <p:cNvPr id="103" name=""/>
          <p:cNvSpPr/>
          <p:nvPr/>
        </p:nvSpPr>
        <p:spPr>
          <a:xfrm flipH="1" flipV="1">
            <a:off x="7308360" y="3645000"/>
            <a:ext cx="2876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 name="" descr="">
            <a:hlinkClick r:id="rId5"/>
          </p:cNvPr>
          <p:cNvPicPr/>
          <p:nvPr/>
        </p:nvPicPr>
        <p:blipFill>
          <a:blip r:embed="rId6"/>
          <a:stretch/>
        </p:blipFill>
        <p:spPr>
          <a:xfrm>
            <a:off x="6372360" y="669960"/>
            <a:ext cx="2087280" cy="1574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4" dur="500"/>
                                        <p:tgtEl>
                                          <p:spTgt spid="9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29" dur="500"/>
                                        <p:tgtEl>
                                          <p:spTgt spid="9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4"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acceptability of violence is linked to…</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IS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RIOUSNES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ether violence is UNPUNISHED or no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ether violence is FUN or HEROIC</a:t>
            </a:r>
            <a:endParaRPr b="0" lang="en-US" sz="3100" spc="-1" strike="noStrike">
              <a:solidFill>
                <a:srgbClr val="000000"/>
              </a:solidFill>
              <a:latin typeface="Arial"/>
            </a:endParaRPr>
          </a:p>
        </p:txBody>
      </p:sp>
      <p:pic>
        <p:nvPicPr>
          <p:cNvPr id="107" name="" descr="">
            <a:hlinkClick r:id="rId1"/>
          </p:cNvPr>
          <p:cNvPicPr/>
          <p:nvPr/>
        </p:nvPicPr>
        <p:blipFill>
          <a:blip r:embed="rId2"/>
          <a:stretch/>
        </p:blipFill>
        <p:spPr>
          <a:xfrm>
            <a:off x="4643280" y="2070000"/>
            <a:ext cx="2089440" cy="1273320"/>
          </a:xfrm>
          <a:prstGeom prst="rect">
            <a:avLst/>
          </a:prstGeom>
          <a:ln w="0">
            <a:noFill/>
          </a:ln>
        </p:spPr>
      </p:pic>
      <p:pic>
        <p:nvPicPr>
          <p:cNvPr id="108" name="" descr="">
            <a:hlinkClick r:id="rId3"/>
          </p:cNvPr>
          <p:cNvPicPr/>
          <p:nvPr/>
        </p:nvPicPr>
        <p:blipFill>
          <a:blip r:embed="rId4"/>
          <a:stretch/>
        </p:blipFill>
        <p:spPr>
          <a:xfrm>
            <a:off x="7885080" y="5229360"/>
            <a:ext cx="1004760" cy="1439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41" dur="500"/>
                                        <p:tgtEl>
                                          <p:spTgt spid="10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46" dur="500"/>
                                        <p:tgtEl>
                                          <p:spTgt spid="10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1" dur="500"/>
                                        <p:tgtEl>
                                          <p:spTgt spid="106">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6"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otter (1999)</a:t>
            </a: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o is the perpetrator of the violenc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o is the victim of violenc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violence presented as justifie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re there consequences of violence portraye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violence represented as normative or as abhorren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63" dur="500"/>
                                        <p:tgtEl>
                                          <p:spTgt spid="11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68" dur="500"/>
                                        <p:tgtEl>
                                          <p:spTgt spid="110">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73" dur="500"/>
                                        <p:tgtEl>
                                          <p:spTgt spid="110">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78" dur="500"/>
                                        <p:tgtEl>
                                          <p:spTgt spid="110">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83"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atural Born Killer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ourne Ultimatum</a:t>
            </a:r>
            <a:endParaRPr b="0" lang="en-US" sz="3100" spc="-1" strike="noStrike">
              <a:solidFill>
                <a:srgbClr val="000000"/>
              </a:solidFill>
              <a:latin typeface="Arial"/>
            </a:endParaRPr>
          </a:p>
        </p:txBody>
      </p:sp>
      <p:pic>
        <p:nvPicPr>
          <p:cNvPr id="113" name="" descr=""/>
          <p:cNvPicPr/>
          <p:nvPr/>
        </p:nvPicPr>
        <p:blipFill>
          <a:blip r:embed="rId1"/>
          <a:stretch/>
        </p:blipFill>
        <p:spPr>
          <a:xfrm>
            <a:off x="5829480" y="476280"/>
            <a:ext cx="2751120" cy="3673440"/>
          </a:xfrm>
          <a:prstGeom prst="rect">
            <a:avLst/>
          </a:prstGeom>
          <a:ln w="0">
            <a:noFill/>
          </a:ln>
        </p:spPr>
      </p:pic>
      <p:pic>
        <p:nvPicPr>
          <p:cNvPr id="114" name="" descr=""/>
          <p:cNvPicPr/>
          <p:nvPr/>
        </p:nvPicPr>
        <p:blipFill>
          <a:blip r:embed="rId2"/>
          <a:stretch/>
        </p:blipFill>
        <p:spPr>
          <a:xfrm>
            <a:off x="1187280" y="3429000"/>
            <a:ext cx="246096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meron and Fraser (1987)</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presentations of sexual violence are endemic in our country.</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a often portrays women and elderly as victims of crime.</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 Britain, statistically, the group most at risk from violence is young men.</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a representations are constructed to give a negative perception of the world.</a:t>
            </a:r>
            <a:endParaRPr b="0" lang="en-US" sz="3100" spc="-1" strike="noStrike">
              <a:solidFill>
                <a:srgbClr val="000000"/>
              </a:solidFill>
              <a:latin typeface="Arial"/>
            </a:endParaRPr>
          </a:p>
        </p:txBody>
      </p:sp>
      <p:pic>
        <p:nvPicPr>
          <p:cNvPr id="117" name="" descr="">
            <a:hlinkClick r:id="rId1"/>
          </p:cNvPr>
          <p:cNvPicPr/>
          <p:nvPr/>
        </p:nvPicPr>
        <p:blipFill>
          <a:blip r:embed="rId2"/>
          <a:stretch/>
        </p:blipFill>
        <p:spPr>
          <a:xfrm>
            <a:off x="6877080" y="0"/>
            <a:ext cx="2266920" cy="10126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90" dur="500"/>
                                        <p:tgtEl>
                                          <p:spTgt spid="116">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95" dur="500"/>
                                        <p:tgtEl>
                                          <p:spTgt spid="116">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16">
                                            <p:txEl>
                                              <p:pRg st="2" end="2"/>
                                            </p:txEl>
                                          </p:spTgt>
                                        </p:tgtEl>
                                        <p:attrNameLst>
                                          <p:attrName>style.visibility</p:attrName>
                                        </p:attrNameLst>
                                      </p:cBhvr>
                                      <p:to>
                                        <p:strVal val="visible"/>
                                      </p:to>
                                    </p:set>
                                    <p:animEffect filter="dissolve" transition="in">
                                      <p:cBhvr additive="repl">
                                        <p:cTn id="100" dur="500"/>
                                        <p:tgtEl>
                                          <p:spTgt spid="116">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16">
                                            <p:txEl>
                                              <p:pRg st="3" end="3"/>
                                            </p:txEl>
                                          </p:spTgt>
                                        </p:tgtEl>
                                        <p:attrNameLst>
                                          <p:attrName>style.visibility</p:attrName>
                                        </p:attrNameLst>
                                      </p:cBhvr>
                                      <p:to>
                                        <p:strVal val="visible"/>
                                      </p:to>
                                    </p:set>
                                    <p:animEffect filter="dissolve" transition="in">
                                      <p:cBhvr additive="repl">
                                        <p:cTn id="105"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Gitlin (2003)</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ctional violence is an easy target for criticism.</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is absent from media is as significant as what is conveyed.</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addam Hussein – images of his execution were available on internet, edited version shown on TV.</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es news sanitise violence?</a:t>
            </a:r>
            <a:endParaRPr b="0" lang="en-US" sz="3100" spc="-1" strike="noStrike">
              <a:solidFill>
                <a:srgbClr val="000000"/>
              </a:solidFill>
              <a:latin typeface="Arial"/>
            </a:endParaRPr>
          </a:p>
        </p:txBody>
      </p:sp>
      <p:pic>
        <p:nvPicPr>
          <p:cNvPr id="120" name="" descr="">
            <a:hlinkClick r:id="rId1"/>
          </p:cNvPr>
          <p:cNvPicPr/>
          <p:nvPr/>
        </p:nvPicPr>
        <p:blipFill>
          <a:blip r:embed="rId2"/>
          <a:stretch/>
        </p:blipFill>
        <p:spPr>
          <a:xfrm>
            <a:off x="7059600" y="0"/>
            <a:ext cx="2084400" cy="1736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12" dur="500"/>
                                        <p:tgtEl>
                                          <p:spTgt spid="11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17" dur="500"/>
                                        <p:tgtEl>
                                          <p:spTgt spid="11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22" dur="500"/>
                                        <p:tgtEl>
                                          <p:spTgt spid="119">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127"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y play violent computer games?</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response to feelings of lack of control in life</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ied into sense of masculinity in Western society</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t being squeamish about violence is part of asserting manhood.</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hould this violence be regulated?</a:t>
            </a:r>
            <a:endParaRPr b="0" lang="en-US" sz="3100" spc="-1" strike="noStrike">
              <a:solidFill>
                <a:srgbClr val="000000"/>
              </a:solidFill>
              <a:latin typeface="Arial"/>
            </a:endParaRPr>
          </a:p>
        </p:txBody>
      </p:sp>
      <p:pic>
        <p:nvPicPr>
          <p:cNvPr id="123" name="" descr=""/>
          <p:cNvPicPr/>
          <p:nvPr/>
        </p:nvPicPr>
        <p:blipFill>
          <a:blip r:embed="rId1"/>
          <a:stretch/>
        </p:blipFill>
        <p:spPr>
          <a:xfrm>
            <a:off x="7524720" y="5629320"/>
            <a:ext cx="1619280" cy="12286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34" dur="500"/>
                                        <p:tgtEl>
                                          <p:spTgt spid="12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39" dur="500"/>
                                        <p:tgtEl>
                                          <p:spTgt spid="122">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44" dur="500"/>
                                        <p:tgtEl>
                                          <p:spTgt spid="122">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149"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0:12:34Z</dcterms:created>
  <dc:creator>niall</dc:creator>
  <dc:description/>
  <dc:language>en-US</dc:language>
  <cp:lastModifiedBy>niall</cp:lastModifiedBy>
  <dcterms:modified xsi:type="dcterms:W3CDTF">2010-09-28T17:54:15Z</dcterms:modified>
  <cp:revision>13</cp:revision>
  <dc:subject/>
  <dc:title>Media Violence</dc:title>
</cp:coreProperties>
</file>